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9079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60640" y="-360"/>
            <a:ext cx="1195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9967-6324-478C-A87F-46BB8C3C824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64240" y="0"/>
            <a:ext cx="11937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48E-6496-4EC1-BAB8-635A3DDC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392-6E95-40B4-9381-114310F7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B92-2300-4EAE-A4A8-4E42FA1B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D6F-E7D6-4F30-B927-2797637F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6AB-6839-4083-897D-0E14733E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4179-98B3-43C6-902C-00512A22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7CF7-4361-4BEA-A9BF-40C2E91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4C6D-3CF3-4391-83A9-6BB5224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B80-B687-4B13-A990-9E2DD491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FFA8-222D-4213-821A-55AEB0BB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AC4-B147-4857-BB08-0E89770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250-FB41-40D5-8CD7-178FD449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1D8F-FCA1-48E2-AA32-7C0D07F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06AE-0A82-48AF-B24A-A653489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B479-AEC4-40F7-9BB1-F97D8B2E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1E62-1098-41C5-B44F-81BD06B8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AB46-8A12-4FA0-B2C9-289A80F0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422-2C16-4CDE-9215-12B15AEF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E92-87B4-4065-868C-22982C26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C5B-880A-4C30-B46A-36067097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D1F-B62F-481F-A28F-D8FF0A1E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5B5-9E5B-4217-9C5F-9937802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CCA-7619-41DC-BCE6-5507B42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6BC-22D2-4EFC-907C-7BBF6CC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E2A1-E188-40B8-8BF6-5916BE7547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D3C-E512-4706-A026-3CCD4B2C1C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Aktualizácia indikatívneho zoznamu veľkých projektov</a:t>
            </a:r>
            <a:r>
              <a:rPr b="1" lang="sk-SK" sz="24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5892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ualizácia indikatívneho zoznamu veľkých projekt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84963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. apríla 2009 – 4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1 164 404 168 E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3 projekty stiahnuté žiadateľmi (Bardejov, Dolné a Stredné Kysuc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 decembra 2009 – 5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980 137 640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2 projekty stiahnuté žiadateľmi (Banská Bystrica a Starin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6. mája 2010 – 6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23 790 218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838080" y="2362320"/>
          <a:ext cx="7837560" cy="3477960"/>
        </p:xfrm>
        <a:graphic>
          <a:graphicData uri="http://schemas.openxmlformats.org/drawingml/2006/table">
            <a:tbl>
              <a:tblPr/>
              <a:tblGrid>
                <a:gridCol w="1960560"/>
                <a:gridCol w="1959120"/>
                <a:gridCol w="1959120"/>
                <a:gridCol w="195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oj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Odhad. celk.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ktuálny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edloženie 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Ružombe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2 488 5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5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č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360 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462 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va 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080 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omien.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vi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049 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omien.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unajs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437 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omien.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V 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966 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900000" y="2349360"/>
          <a:ext cx="7693200" cy="3883320"/>
        </p:xfrm>
        <a:graphic>
          <a:graphicData uri="http://schemas.openxmlformats.org/drawingml/2006/table">
            <a:tbl>
              <a:tblPr/>
              <a:tblGrid>
                <a:gridCol w="2087640"/>
                <a:gridCol w="1758960"/>
                <a:gridCol w="1924200"/>
                <a:gridCol w="192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oj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Odhad. celk.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ktuálny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edloženie 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198 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š a Ta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587 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č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6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ČOV st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0 714 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ec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rnava-Piešť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 877 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ec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ornád-Slan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5 787 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úch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6 157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ripomien.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10-05-26T08:06:04Z</dcterms:modified>
  <cp:revision>92</cp:revision>
  <dc:subject/>
  <dc:title>MONITOROVACÍ VÝBOR 7.5.2008</dc:title>
</cp:coreProperties>
</file>